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45D-D637-4541-AC2C-53872280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0C7-C172-4CBE-AA27-047C6B9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92F-2491-48C8-A82D-8BC41592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F72-42A3-4A52-A655-D1282256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676-DF75-424F-8A1C-6304626F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567-8C9A-4D04-8684-7859DAA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40B-2DCF-4A0F-929B-0F304DB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505-29A0-42BB-A8A3-52206D6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0D6-16CC-4A40-9A80-F69B075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2BB-FE88-4AAC-87C2-7B06B76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824-82B2-478B-B4C6-5B0A2BA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A31-987F-4D92-911F-8F5330AB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43D-6388-499F-A5CC-0EFDE76F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first thing the group did to complete this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perfect order, and how did you decide on this perfect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eps did you take to place the card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8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to Pull in Immediat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tawba.k12.nc.us/pages/techtrac/techtrac10/brenda/dbdef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World in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use databases to organize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4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ethods do you use to stay organized at school and at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activity…have kids sort themselves by birth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xperience do you have with data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know about data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00800" cy="39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ant to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3:54:57Z</dcterms:created>
  <dc:creator>Director Of Technology</dc:creator>
  <dc:description/>
  <dc:language>en-US</dc:language>
  <cp:lastModifiedBy>Director Of Technology</cp:lastModifiedBy>
  <dcterms:modified xsi:type="dcterms:W3CDTF">2008-01-10T16:22:56Z</dcterms:modified>
  <cp:revision>3</cp:revision>
  <dc:subject/>
  <dc:title>Is the World in Order?</dc:title>
</cp:coreProperties>
</file>